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CBEE-649A-4805-82DD-24927A35A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770E-006D-4531-B96A-12F8DEF59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E14B-7116-4DBC-95EA-3B55C9B09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736F-8C14-4E29-B066-956FC2EBE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9A31-C76A-4DAE-BC7E-C102E3FC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E5A2-1B2C-4301-8253-39F1433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33F8-898A-4D84-AC2A-45093303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C04C-DF37-463D-9CB6-D5847FF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A2212-A3B0-4DB7-AEAB-F3E9DA6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894BF-ECD1-402B-9B95-ADED74D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E6F16-3095-4BC2-AB69-35D426E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1851-7FC1-4546-AD37-871475E62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A560D-2FF2-4BB4-81CC-5283CC9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AFFD-1C8D-4138-88FC-EBC3EA1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F871A-0FF0-4679-86E7-26A98FD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C2A5-B48D-4CA6-A3AD-96BA7F76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CAD90-F832-4CE4-92B3-2BFFB4DF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6978-5446-4F69-9472-D2B4953EB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633E-FB55-4BBE-8DF6-00D2F4B9A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9209-5B39-4AA9-9653-0AA28D262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20C2-EF11-4F82-8EE1-19045803E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4A52-A989-4F3D-B319-18DBD2BDD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9CD1-C4E0-4641-8CF6-BD5B2C0E9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B0EC-6DB0-4764-9063-E5AA93CF5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897-0BB3-4507-B0B2-1C75CBF5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2800" y="5791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5783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B82-805E-4538-9CCD-E958F551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5D69-1A71-4C21-BCE5-2F5C9B5BBF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mage is recognizable and may be identifiable with a particula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t blood is transferred to a surface which did not have blood on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blood bearing object moves through a wet bloodstain, altering the appearance of the original s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9984-6F27-4EBA-9DA7-2264FCCEF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direction a drop of blood traveled in space from its point of ori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than 25 feet per second, usually 100 feet per second; gives a fine mist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25 feet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eet per second 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ECD4-B5B4-4193-9D4A-3694F992BD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4495680"/>
          <a:ext cx="62481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62481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81DE-F278-414D-B29F-D47BE43B38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 of impact, the more elongated the s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, the easier it is to determine the direction of tra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1828800" cy="27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FDC1-A045-4125-877C-4CCFEA414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ffects of the Angle of Impact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452412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drop on the left fell 42 inches at an angl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60-degree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n to hard smooth cardboard, while the drop on the right fell the same 42 inches and on to the same surface, but at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0-degree ang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F02D-1A98-4AA5-9783-8BDFCF501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less the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more a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d end of the blood stain faces the direction of tra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1981080"/>
            <a:ext cx="2535120" cy="3429000"/>
            <a:chOff x="5486400" y="1981080"/>
            <a:chExt cx="2535120" cy="3429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5486400" y="1981080"/>
              <a:ext cx="2535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486400" y="1981080"/>
              <a:ext cx="2535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4A9D-8034-40D6-B9F9-1293E4097B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4952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5542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E3FB-1C67-41D9-98FB-4310DFE3C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the physical properties of blood and the patterns made under differen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, as a fluid, follows the laws of physic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BB4E-A71C-411F-B22D-59553A95D4C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collides with 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blood droplet impacts a surface, a bloodstai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1246-B802-472C-9C9F-B2FD747AFE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 0.05 cc of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 0.03 cc to 0.15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CC44-B524-40D7-9A8F-2AA667FDA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dro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at which the blood droplet left its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of the targ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will have smooth outsid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duce scalloping on the ed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9275-5D51-4288-9236-0A253223F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patter example 2"/>
          <p:cNvPicPr/>
          <p:nvPr/>
        </p:nvPicPr>
        <p:blipFill>
          <a:blip r:embed="rId1"/>
          <a:stretch/>
        </p:blipFill>
        <p:spPr>
          <a:xfrm>
            <a:off x="1981080" y="1981080"/>
            <a:ext cx="152424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patter example 2b"/>
          <p:cNvPicPr/>
          <p:nvPr/>
        </p:nvPicPr>
        <p:blipFill>
          <a:blip r:embed="rId2"/>
          <a:stretch/>
        </p:blipFill>
        <p:spPr>
          <a:xfrm>
            <a:off x="5791320" y="1981080"/>
            <a:ext cx="14810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53341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5716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blood drop at the left struck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lastic wall ti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falling again from 42 inches. On the right, the drop fell from the same distance on to a piec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heavy, unusual textured wall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Effects of Surface Texture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lastic wall 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xtured wal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F2C7-AFFD-4DD5-A075-7028F32D69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 target surface and the origin of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and direction of a person or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F62A-AA8E-42EF-8DC5-E0769DEC7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and direction of impact that produced the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the victim and/or object during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of the victim and/or object after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832C-5EBA-4CD3-A4CE-D19CF50628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at which blood strikes a target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directed back toward the source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86E3-9063-44D5-B6E2-F6DEF08608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22:21:34Z</dcterms:created>
  <dc:creator>Barb Weekley</dc:creator>
  <dc:description/>
  <dc:language>en-US</dc:language>
  <cp:lastModifiedBy>Preferred Customer</cp:lastModifiedBy>
  <dcterms:modified xsi:type="dcterms:W3CDTF">2009-02-18T10:22:41Z</dcterms:modified>
  <cp:revision>170</cp:revision>
  <dc:subject/>
  <dc:title>FORENSIC SCIENCE Serology</dc:title>
</cp:coreProperties>
</file>